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9389"/>
        <c:axId val="37447216"/>
      </c:barChart>
      <c:catAx>
        <c:axId val="95669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47216"/>
        <c:crosses val="autoZero"/>
        <c:auto val="1"/>
        <c:lblAlgn val="ctr"/>
        <c:lblOffset val="100"/>
        <c:noMultiLvlLbl val="0"/>
      </c:catAx>
      <c:valAx>
        <c:axId val="37447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9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DAC-3F48-4FC5-98B7-72307498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2D8-974F-4932-A6D3-B0C6AA1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46C-5BAB-4806-8E00-14D80147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D15-745B-41BF-9364-09EDF328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9C3-A9D4-46DD-B9E8-3DE5D7E9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37B-E03D-47CE-8F64-B13F26D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83D-FA74-442F-B6BA-484D8894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1E8-4300-4AD2-8B24-37A2D30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4C9-9A5E-40E1-AA08-0416E7D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E73-78EB-4D7B-AB2C-BA65DCC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49D-3A10-4A17-9933-96AB622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78D-FEDD-4210-B35A-058A7EC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57D7-1CE2-498D-B294-034C917FCD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